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15C3-A924-42EE-B442-E27ECB17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CC94-6BFF-40E3-9AB4-51C367F2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FD61-3404-49E9-97A0-A3628A3D9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DE0F-0AFC-4BA0-BA50-16E7EA096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069B-7678-4422-B8DF-82A4FDA3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6313-DE13-44C4-B0B7-AC9596ED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B0D6-7E2D-4BB7-9E7B-0E19C0D6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248A-D208-4839-8FB2-60CA2D04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498F-DA42-40D0-8E62-5E3D7B99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CE4F-1B9E-4772-B79C-D7CAA27F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1BE6-E5F2-4DD5-8375-0BFCF304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B743-2F1F-4B8F-8303-D9A22B40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0515-275E-440B-9465-C27F45F56D9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6178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ELLCROFT  MILLENNIUM                  GLASGOW  MASONIC                            RUTHERGLEN  &amp;  DISTRICT           CLYDE  CART  TOURI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430524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9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Clyde Cart Tourists"/>
          <p:cNvPicPr/>
          <p:nvPr/>
        </p:nvPicPr>
        <p:blipFill>
          <a:blip r:embed="rId1"/>
          <a:stretch/>
        </p:blipFill>
        <p:spPr>
          <a:xfrm>
            <a:off x="5600880" y="47628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Rutherglen Assoc 50th.JPG"/>
          <p:cNvPicPr/>
          <p:nvPr/>
        </p:nvPicPr>
        <p:blipFill>
          <a:blip r:embed="rId2"/>
          <a:stretch/>
        </p:blipFill>
        <p:spPr>
          <a:xfrm>
            <a:off x="3944880" y="260280"/>
            <a:ext cx="1243080" cy="1390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Glasgow Masonic.JPG"/>
          <p:cNvPicPr/>
          <p:nvPr/>
        </p:nvPicPr>
        <p:blipFill>
          <a:blip r:embed="rId3"/>
          <a:stretch/>
        </p:blipFill>
        <p:spPr>
          <a:xfrm>
            <a:off x="2000160" y="404640"/>
            <a:ext cx="1243080" cy="1283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Wellcroft Millennium1.JPG"/>
          <p:cNvPicPr/>
          <p:nvPr/>
        </p:nvPicPr>
        <p:blipFill>
          <a:blip r:embed="rId4"/>
          <a:stretch/>
        </p:blipFill>
        <p:spPr>
          <a:xfrm>
            <a:off x="344520" y="333360"/>
            <a:ext cx="106056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19:57:43Z</dcterms:created>
  <dc:creator>HP authorized customer</dc:creator>
  <dc:description/>
  <dc:language>en-US</dc:language>
  <cp:lastModifiedBy>John</cp:lastModifiedBy>
  <dcterms:modified xsi:type="dcterms:W3CDTF">2011-11-16T21:38:18Z</dcterms:modified>
  <cp:revision>7</cp:revision>
  <dc:subject/>
  <dc:title>Slide 1</dc:title>
</cp:coreProperties>
</file>